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6D6-C727-40D3-ABA4-DCD87B52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327-9069-4D0C-980C-ABC0780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3C7-7E9A-48C6-9B94-F99412A1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97A-E3F0-49D0-9FC2-C827755E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33A-D377-465C-A0A5-79DEC504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444-D6AB-4241-941F-FF4A80A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356-E94C-4B69-B460-8F08D89A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66B-2A5B-4AEE-990F-79EAB9E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CD3-EE1A-4D83-90CD-C821872E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D0A-3D8E-40FE-85BB-CCD795C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1BD-4FA2-44C7-9D78-98E504B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A69-2F3F-4CA4-9772-CF9D8D03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EF6-8692-43D1-88E3-D75F7AD9D6A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TATISTICAL SCI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rganigrama 2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8521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alibri"/>
              </a:rPr>
              <a:t>DESCRIPTIVE STATISTIC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551280" y="3499920"/>
            <a:ext cx="259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8 CuadroTexto"/>
          <p:cNvSpPr/>
          <p:nvPr/>
        </p:nvSpPr>
        <p:spPr>
          <a:xfrm>
            <a:off x="3995640" y="981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 coll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ternal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nal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CuadroTexto"/>
          <p:cNvSpPr/>
          <p:nvPr/>
        </p:nvSpPr>
        <p:spPr>
          <a:xfrm>
            <a:off x="3995640" y="21337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 organ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equency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hart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2 CuadroTexto"/>
          <p:cNvSpPr/>
          <p:nvPr/>
        </p:nvSpPr>
        <p:spPr>
          <a:xfrm>
            <a:off x="3995640" y="4221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 analy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asures of  Central Tendency:  a; Me;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asures of Non Central Tendency: Qi; Di;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asures of Variability: S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; S; 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asures of shape: skew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CuadroTexto"/>
          <p:cNvSpPr/>
          <p:nvPr/>
        </p:nvSpPr>
        <p:spPr>
          <a:xfrm>
            <a:off x="250920" y="306864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2 CuadroTexto"/>
          <p:cNvSpPr/>
          <p:nvPr/>
        </p:nvSpPr>
        <p:spPr>
          <a:xfrm>
            <a:off x="3564000" y="321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5 Flecha derecha"/>
          <p:cNvSpPr/>
          <p:nvPr/>
        </p:nvSpPr>
        <p:spPr>
          <a:xfrm>
            <a:off x="3348000" y="3789360"/>
            <a:ext cx="2879640" cy="14436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51280" y="3284640"/>
            <a:ext cx="2592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8 CuadroTexto"/>
          <p:cNvSpPr/>
          <p:nvPr/>
        </p:nvSpPr>
        <p:spPr>
          <a:xfrm>
            <a:off x="4067280" y="1413000"/>
            <a:ext cx="34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mpling tech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 Random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tratified Random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4067280" y="4292640"/>
            <a:ext cx="46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mation tech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int estim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per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thods to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fidence interval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pothesis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250920" y="285264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635280" y="2997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7 Flecha izquierda"/>
          <p:cNvSpPr/>
          <p:nvPr/>
        </p:nvSpPr>
        <p:spPr>
          <a:xfrm>
            <a:off x="3276720" y="3573360"/>
            <a:ext cx="3024000" cy="14292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1280" y="2781360"/>
            <a:ext cx="2592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8 CuadroTexto"/>
          <p:cNvSpPr/>
          <p:nvPr/>
        </p:nvSpPr>
        <p:spPr>
          <a:xfrm>
            <a:off x="3995640" y="105264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xiomatic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thods of asigning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ditional probability and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2 CuadroTexto"/>
          <p:cNvSpPr/>
          <p:nvPr/>
        </p:nvSpPr>
        <p:spPr>
          <a:xfrm>
            <a:off x="4067280" y="378936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ndom variable: discrete and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bilit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tribu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nsity distribu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ments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250920" y="234936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2 CuadroTexto"/>
          <p:cNvSpPr/>
          <p:nvPr/>
        </p:nvSpPr>
        <p:spPr>
          <a:xfrm>
            <a:off x="3635280" y="242100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METE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7 Flecha izquierda"/>
          <p:cNvSpPr/>
          <p:nvPr/>
        </p:nvSpPr>
        <p:spPr>
          <a:xfrm>
            <a:off x="3132000" y="2997360"/>
            <a:ext cx="3024360" cy="144360"/>
          </a:xfrm>
          <a:prstGeom prst="leftArrow">
            <a:avLst>
              <a:gd name="adj1" fmla="val 50000"/>
              <a:gd name="adj2" fmla="val 500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4 CuadroTexto"/>
          <p:cNvSpPr/>
          <p:nvPr/>
        </p:nvSpPr>
        <p:spPr>
          <a:xfrm>
            <a:off x="4067280" y="5516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bility distributions: binomial,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isson, Normal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he Central Limit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6:17:33Z</dcterms:created>
  <dc:creator>julio.hernandez.marc</dc:creator>
  <dc:description/>
  <dc:language>en-US</dc:language>
  <cp:lastModifiedBy>julio.hernandez.marc</cp:lastModifiedBy>
  <dcterms:modified xsi:type="dcterms:W3CDTF">2012-01-12T18:54:48Z</dcterms:modified>
  <cp:revision>21</cp:revision>
  <dc:subject/>
  <dc:title>Diapositiva 1</dc:title>
</cp:coreProperties>
</file>